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gif" ContentType="image/gif"/>
  <Override PartName="/ppt/media/image5.wmf" ContentType="image/x-wmf"/>
  <Override PartName="/ppt/media/image7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4C7-7295-4A9E-AAAF-925AD1B4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C91-083F-4DB7-8738-C7038F41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F33-F820-4CB1-8715-1275E201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58E-4A68-45A3-9BAE-F91E0BD0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6A8-C625-4B42-AEC4-36A3E294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544-AAE4-4796-A340-70C48B66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14E-DD4B-4EEC-9FA9-8D21C544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4DF-5902-480A-9452-942562B9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B6E3-CC1A-4811-9E67-92FF8E06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E62-F5DA-4D40-8FAF-97C690C4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856-8E0E-4662-83EC-C0D7B7BF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ABF-C686-49B2-B585-B3C01306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AD2F-C083-4CFE-ABC6-90AA65345B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1684800"/>
            <a:ext cx="9901080" cy="854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br>
              <a:rPr sz="5900"/>
            </a:br>
            <a:r>
              <a:rPr b="1" i="1" lang="ru-RU" sz="6600" spc="-1" strike="noStrike">
                <a:solidFill>
                  <a:srgbClr val="000000"/>
                </a:solidFill>
                <a:latin typeface="Garamond"/>
              </a:rPr>
              <a:t>Курение-</a:t>
            </a:r>
            <a:br>
              <a:rPr sz="6600"/>
            </a:br>
            <a:r>
              <a:rPr b="1" i="1" lang="ru-RU" sz="6600" spc="-1" strike="noStrike">
                <a:solidFill>
                  <a:srgbClr val="000000"/>
                </a:solidFill>
                <a:latin typeface="Garamond"/>
              </a:rPr>
              <a:t>опасное увлечение</a:t>
            </a:r>
            <a:br>
              <a:rPr sz="6600"/>
            </a:br>
            <a:br>
              <a:rPr sz="5900"/>
            </a:br>
            <a:r>
              <a:rPr b="1" i="1" lang="ru-RU" sz="59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i="1" lang="ru-RU" sz="3500" spc="-1" strike="noStrike">
                <a:solidFill>
                  <a:srgbClr val="000000"/>
                </a:solidFill>
                <a:latin typeface="Garamond"/>
              </a:rPr>
              <a:t>«</a:t>
            </a:r>
            <a:r>
              <a:rPr b="1" i="1" lang="ru-RU" sz="3100" spc="-1" strike="noStrike">
                <a:solidFill>
                  <a:srgbClr val="000000"/>
                </a:solidFill>
                <a:latin typeface="Garamond"/>
              </a:rPr>
              <a:t>Табак приносит вред телу,</a:t>
            </a:r>
            <a:br>
              <a:rPr sz="3100"/>
            </a:br>
            <a:r>
              <a:rPr b="1" i="1" lang="ru-RU" sz="3100" spc="-1" strike="noStrike">
                <a:solidFill>
                  <a:srgbClr val="000000"/>
                </a:solidFill>
                <a:latin typeface="Garamond"/>
              </a:rPr>
              <a:t>        разрушает разум, </a:t>
            </a:r>
            <a:br>
              <a:rPr sz="3100"/>
            </a:br>
            <a:r>
              <a:rPr b="1" i="1" lang="ru-RU" sz="3100" spc="-1" strike="noStrike">
                <a:solidFill>
                  <a:srgbClr val="000000"/>
                </a:solidFill>
                <a:latin typeface="Garamond"/>
              </a:rPr>
              <a:t>                    отупляет целые нации»</a:t>
            </a:r>
            <a:br>
              <a:rPr sz="3100"/>
            </a:br>
            <a:br>
              <a:rPr sz="3100"/>
            </a:br>
            <a:r>
              <a:rPr b="1" i="1" lang="ru-RU" sz="3100" spc="-1" strike="noStrike">
                <a:solidFill>
                  <a:srgbClr val="000000"/>
                </a:solidFill>
                <a:latin typeface="Garamond"/>
              </a:rPr>
              <a:t>                                               О. Де Бальзак. </a:t>
            </a:r>
            <a:br>
              <a:rPr sz="59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PE03339_"/>
          <p:cNvPicPr/>
          <p:nvPr/>
        </p:nvPicPr>
        <p:blipFill>
          <a:blip r:embed="rId1"/>
          <a:stretch/>
        </p:blipFill>
        <p:spPr>
          <a:xfrm>
            <a:off x="58680" y="3429000"/>
            <a:ext cx="267012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10517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EARTLNG"/>
          <p:cNvPicPr/>
          <p:nvPr/>
        </p:nvPicPr>
        <p:blipFill>
          <a:blip r:embed="rId1"/>
          <a:stretch/>
        </p:blipFill>
        <p:spPr>
          <a:xfrm>
            <a:off x="1116000" y="0"/>
            <a:ext cx="614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2124000" y="189000"/>
            <a:ext cx="65534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21 ноябр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0" y="4797360"/>
            <a:ext cx="91440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День борьбы с курением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460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09232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Борьба с курение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Англ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вычитают деньги из зарплаты за врем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ное в курительной комна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Да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запрещено курить в общественных мес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ингапу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урение – 500 долларов штраф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рекламы на табачные из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Финлянд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врачи установили 1 день - 17 ноябр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курильщики приходят на работу без сигар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Япония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Ваки – решение: 3 дня в месяц без ку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Фран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сле антитабачной кампании число курильщ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тилось более, чем на 2 млн.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Итак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1044720" y="-387360"/>
            <a:ext cx="112334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-1004760" y="2248200"/>
            <a:ext cx="1107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вред здоровью может принести сигаре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вредные вещества в сигар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могают ли фильтры избежать вредных воздействи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Как вы поясните поговорку “Капля никотина убивает лошадь!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ак ведется борьба с курением в других страна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ас в стране? В шк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800"/>
                </a:solidFill>
                <a:latin typeface="Arial"/>
              </a:rPr>
              <a:t>Мои аргументы против ку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ение разрушает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ение приводит к неизлечимым болезн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ение снижает физическую актив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ение портит цвет ко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тин забирает свободу, человек становится его ра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mg1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61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1.jpg (20867 bytes)"/>
          <p:cNvPicPr/>
          <p:nvPr/>
        </p:nvPicPr>
        <p:blipFill>
          <a:blip r:embed="rId1"/>
          <a:stretch/>
        </p:blipFill>
        <p:spPr>
          <a:xfrm>
            <a:off x="971640" y="0"/>
            <a:ext cx="78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1042920" y="638172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189000"/>
          <a:ext cx="8713800" cy="6416640"/>
        </p:xfrm>
        <a:graphic>
          <a:graphicData uri="http://schemas.openxmlformats.org/drawingml/2006/table">
            <a:tbl>
              <a:tblPr/>
              <a:tblGrid>
                <a:gridCol w="4392720"/>
                <a:gridCol w="1224000"/>
                <a:gridCol w="1257120"/>
                <a:gridCol w="183996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ке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ь клас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ьчи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Вы курите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чему вы начали курить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рузья курили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родители кури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з любопы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чтобы выглядеть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Большинство ваших друзей курит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ак вы оцениваете свою успеваемость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выше сре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ре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иже сре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Пытались ли вы бросить курить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Считаете ли вы, что курение опасно для вашего здоровья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е задумывался над эти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Чаще всего я курю тогда, когда ------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Я делаю попытки бросить курить, но мне мешают такие обстоятельства-----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Мои родители о моей привычк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е догадываю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огадываю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нуюсь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маю что это баловство,когда захочу, тогда и брош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нуюс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маю что это баловство,когда захочу, тогда и брош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img2.jpg (15310 bytes)"/>
          <p:cNvPicPr/>
          <p:nvPr/>
        </p:nvPicPr>
        <p:blipFill>
          <a:blip r:embed="rId1"/>
          <a:stretch/>
        </p:blipFill>
        <p:spPr>
          <a:xfrm>
            <a:off x="611280" y="0"/>
            <a:ext cx="806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11280" y="1844640"/>
          <a:ext cx="7786440" cy="4114800"/>
        </p:xfrm>
        <a:graphic>
          <a:graphicData uri="http://schemas.openxmlformats.org/drawingml/2006/table">
            <a:tbl>
              <a:tblPr/>
              <a:tblGrid>
                <a:gridCol w="3529080"/>
                <a:gridCol w="2014200"/>
                <a:gridCol w="224316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ошенных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куря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я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1%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%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600" cy="4114800"/>
        </p:xfrm>
        <a:graphic>
          <a:graphicData uri="http://schemas.openxmlformats.org/drawingml/2006/table">
            <a:tbl>
              <a:tblPr/>
              <a:tblGrid>
                <a:gridCol w="2892600"/>
                <a:gridCol w="2619360"/>
                <a:gridCol w="271764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ящи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очк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ьчик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%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ее мнение о куре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шение к кур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пусти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о возможно или  обычное де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ьч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оч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ht72(1)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ношение курящих к сигарет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8360" y="1844640"/>
          <a:ext cx="8234280" cy="4969080"/>
        </p:xfrm>
        <a:graphic>
          <a:graphicData uri="http://schemas.openxmlformats.org/drawingml/2006/table">
            <a:tbl>
              <a:tblPr/>
              <a:tblGrid>
                <a:gridCol w="3560760"/>
                <a:gridCol w="2336760"/>
                <a:gridCol w="233676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шение к кур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о возможно или  обычное де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пусти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нош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 (девушкам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уш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 (юношам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436840" y="404640"/>
            <a:ext cx="40147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Хочешь жить – бросай кури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5133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з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ящие, 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курящие,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Нер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нижение слу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лохая пам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лохое физ. состоя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Плохое умств. состоя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Нечистоплот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Плохие отме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Медленно сообража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07:58:20Z</dcterms:created>
  <dc:creator>Школа</dc:creator>
  <dc:description/>
  <dc:language>en-US</dc:language>
  <cp:lastModifiedBy>Admin</cp:lastModifiedBy>
  <dcterms:modified xsi:type="dcterms:W3CDTF">2011-05-01T17:31:01Z</dcterms:modified>
  <cp:revision>24</cp:revision>
  <dc:subject/>
  <dc:title>Курение:  ЗА и ПРОТИВ</dc:title>
</cp:coreProperties>
</file>